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DB41-4843-4328-8A1A-1B128B8F9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B9B-E66B-4FC6-9442-5799FDC1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5093-8D82-4A54-9E07-7E4BF1A9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378-CC41-4D99-AEDC-BEE7B6A5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8875-D21A-4C29-AB81-10C2C3FD7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7141-F690-40D8-969D-A94DEA7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A0E5-532B-46FB-9B89-F38E9E4A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D3B9-B72C-4CC8-AAEA-A3B6D07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61F-2677-4901-8936-DDA27BA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EF6C-808D-4FA2-9160-643AED3E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E7A3-D143-451F-BC20-C530180E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3E3-FC83-4131-B246-35B332E9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9262-739E-40B0-A4CF-518E8595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39ED-2C45-4997-8ED3-2B1808D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CF878-F395-43AA-83B3-8D35996F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4E4A-FCDB-4752-84FC-19191AAA7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0B95-0ADC-485E-B9C7-345081183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D9FA-CA0F-455A-BC77-C30756CD6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F2A-C681-4297-BDE1-B9CA5FEA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A01-BB64-4A38-A5FC-E89A8C94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726-3B2B-4E20-9EC4-58FF9401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EF72-A13C-43A9-99B8-0CB3003F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B99F-B53C-44BC-8212-D00818D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01A-5B7C-4799-B95F-14FDA08B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3178-B19E-471E-9319-879E59EB45C9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8477-7A26-4717-BE41-85B23BF7A881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écnicas de Invasão de Sites e Sistem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962: Projeto que deu origem à internet Paul Bar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969: Aperfeiçoamento deste projeto, surgindo o ARPAN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974: Criação do protocolo TCP em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990: Desenvolvimento do GOPH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1991: Internet passou a ser controlada por entidades comercia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Primeiros Ataqu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02/11/1988 – Um worm é lançado na rede causando grandes transtor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Classificaçã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Hacker: Invade sem prejudica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Cracker: Invade e prejudica, além de roubar informaçõ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Phreaker: Especializado em telefoni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Lamer ou Wannabe: nova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Técnicas Utilizada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43000" y="2057400"/>
          <a:ext cx="6934320" cy="4114800"/>
        </p:xfrm>
        <a:graphic>
          <a:graphicData uri="http://schemas.openxmlformats.org/drawingml/2006/table">
            <a:tbl>
              <a:tblPr/>
              <a:tblGrid>
                <a:gridCol w="3250440"/>
                <a:gridCol w="36838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arredura de Porta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oS (Denial of Service)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niffers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avalo de Tróia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IP Spoofing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inimizando o probl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Identificar as informações da rede, tais como: hardware, software, protocol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Identificar privilégios de usuários e máquinas, definir diretivas de segurança, histórico de brechas de seguranç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Minimizando o problem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Sistema Operacion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rquitetura da re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onfiguração do S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Firew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Política de senh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Criptograf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ducação em seguranç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cc66"/>
                </a:solidFill>
                <a:latin typeface="Times New Roman"/>
              </a:rPr>
              <a:t>Distributed Deny of Service - D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3T11:37:16Z</dcterms:created>
  <dc:creator>Carlos Eduardo Rosa Felix</dc:creator>
  <dc:description/>
  <dc:language>en-US</dc:language>
  <cp:lastModifiedBy>Carlos Eduardo Rosa Felix</cp:lastModifiedBy>
  <dcterms:modified xsi:type="dcterms:W3CDTF">2002-05-03T13:52:35Z</dcterms:modified>
  <cp:revision>8</cp:revision>
  <dc:subject/>
  <dc:title>Técnicas de Invasão de Sites e Sistemas</dc:title>
</cp:coreProperties>
</file>